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6A0-894F-4243-B204-CC9E51B6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66E-243A-4A1E-B8A7-8E4B1755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5E1-3B62-4282-964E-B3D20E1D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8539-3C91-442D-B96F-24599F4A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DF5-CBA0-482E-96F9-D871A01D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7874-7DFE-46DB-8741-78C20B14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1D3-AB1A-41A3-ABEE-74200A6E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F5D-C7BA-4272-AED1-5BD92F1C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A769-9427-4B66-B576-E9BF4895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3C5-94EF-4504-B0A0-E64DA5EE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12E-0214-49C0-8C1A-99111D7F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AE5-EAE5-4A98-A8BD-B50F37C8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55F1-5955-46D2-8E05-023FFBB21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 Narrow"/>
              </a:rPr>
              <a:t>Glory to God in the High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to God in the highe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peace to God’s peo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heavenly King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 an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orship you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give you thank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praise you for your gl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ly Son 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 God, Lamb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take away the sin of the worl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re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receive our pray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alone are the Holy 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alone are the Most Hig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glory of God the Fath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0:20Z</dcterms:created>
  <dc:creator>Anon Anon</dc:creator>
  <dc:description/>
  <dc:language>en-US</dc:language>
  <cp:lastModifiedBy>Anon Anon</cp:lastModifiedBy>
  <dcterms:modified xsi:type="dcterms:W3CDTF">2005-08-09T05:26:53Z</dcterms:modified>
  <cp:revision>10</cp:revision>
  <dc:subject/>
  <dc:title>PowerPoint Presentation</dc:title>
</cp:coreProperties>
</file>